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6.gif" ContentType="image/gif"/>
  <Override PartName="/ppt/media/image19.gif" ContentType="image/gif"/>
  <Override PartName="/ppt/media/image14.jpeg" ContentType="image/jpeg"/>
  <Override PartName="/ppt/media/image18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40.gif" ContentType="image/gif"/>
  <Override PartName="/ppt/media/image30.jpeg" ContentType="image/jpeg"/>
  <Override PartName="/ppt/media/image20.jpeg" ContentType="image/jpeg"/>
  <Override PartName="/ppt/media/image31.jpeg" ContentType="image/jpeg"/>
  <Override PartName="/ppt/media/image32.jpeg" ContentType="image/jpeg"/>
  <Override PartName="/ppt/media/image26.jpeg" ContentType="image/jpeg"/>
  <Override PartName="/ppt/media/image37.jpeg" ContentType="image/jpeg"/>
  <Override PartName="/ppt/media/image10.gif" ContentType="image/gif"/>
  <Override PartName="/ppt/media/image34.jpeg" ContentType="image/jpeg"/>
  <Override PartName="/ppt/media/image41.gif" ContentType="image/gif"/>
  <Override PartName="/ppt/media/image45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46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gif" ContentType="image/gif"/>
  <Override PartName="/ppt/media/image29.jpeg" ContentType="image/jpeg"/>
  <Override PartName="/ppt/media/image38.jpeg" ContentType="image/jpeg"/>
  <Override PartName="/ppt/media/image5.gif" ContentType="image/gif"/>
  <Override PartName="/ppt/media/image33.jpeg" ContentType="image/jpeg"/>
  <Override PartName="/ppt/media/image4.gif" ContentType="image/gif"/>
  <Override PartName="/ppt/media/image4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4A3-3546-4E0F-96CD-C5F7C321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A531-A266-4789-A7ED-5E74729D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782-2386-4562-9A95-084D16F0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7D1D-623B-471D-9703-ACDECAD9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EA34-1A96-422A-A473-6C5625B8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963E-2768-4E2E-A6C0-1900A46A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7B14-3AE5-4949-BEB4-6E2FE2A7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0575-01EC-4BB0-A6D0-C7CE70D6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3BD7-FD66-4502-96D8-093663DD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4EBD-CEA3-408F-9F9F-FD6678B3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BF8C-0AE9-46DA-88ED-F5AFA31B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4B0-85A6-466E-BFDE-E9731B0F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70E1-D81B-4FB9-9D5B-2DECC8FC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9500-0597-441E-82EA-73158C28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95E1-1882-43E4-90CE-981FCE1A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DBA4-0E29-451A-8E9C-0F91A7B9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0EFA-21C2-43F6-9A46-D4387F2C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3D2-23AB-4C20-BCC1-695E1A5A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F2B-6D8F-4846-80D1-7914507E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C63B-1796-4F2E-B9E3-4CD79638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563-C858-415A-8626-F60F1DF2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EE2F-9D66-4513-BF3C-B86F196E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5E90-D3F8-4A0F-B488-6ED9B5D2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35D-B4DB-4BA9-A6A2-40603ACE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bd71"/>
            </a:gs>
            <a:gs pos="100000">
              <a:srgbClr val="65573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1188-007B-4F43-B741-E6876778EB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bd71"/>
            </a:gs>
            <a:gs pos="100000">
              <a:srgbClr val="65573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6500-CA8E-423E-9C9E-2443298E41E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&#1087;&#1088;&#1072;&#1074;&#1072;.xml"/><Relationship Id="rId8" Type="http://schemas.openxmlformats.org/officeDocument/2006/relationships/slide" Target="slide.xml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956720" cy="2852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63300"/>
                </a:solidFill>
                <a:latin typeface="Times New Roman"/>
              </a:rPr>
              <a:t>Уголовное</a:t>
            </a:r>
            <a:r>
              <a:rPr b="0" lang="ru-RU" sz="8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663300"/>
                </a:solidFill>
                <a:latin typeface="Arial"/>
              </a:rPr>
              <a:t>право</a:t>
            </a:r>
            <a:endParaRPr b="0" lang="en-US" sz="9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627280" y="2923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аждый из нас - сын своих дел.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. Серванте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055Суд во время Русской Правды"/>
          <p:cNvPicPr/>
          <p:nvPr/>
        </p:nvPicPr>
        <p:blipFill>
          <a:blip r:embed="rId1"/>
          <a:stretch/>
        </p:blipFill>
        <p:spPr>
          <a:xfrm>
            <a:off x="3676680" y="4221000"/>
            <a:ext cx="5467320" cy="2637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2"/>
          <p:cNvGrpSpPr/>
          <p:nvPr/>
        </p:nvGrpSpPr>
        <p:grpSpPr>
          <a:xfrm>
            <a:off x="0" y="1268280"/>
            <a:ext cx="3132000" cy="5492880"/>
            <a:chOff x="0" y="1268280"/>
            <a:chExt cx="3132000" cy="5492880"/>
          </a:xfrm>
        </p:grpSpPr>
        <p:pic>
          <p:nvPicPr>
            <p:cNvPr id="156" name="Picture 5" descr="roth03Вывеска музея Уголовного права"/>
            <p:cNvPicPr/>
            <p:nvPr/>
          </p:nvPicPr>
          <p:blipFill>
            <a:blip r:embed="rId2"/>
            <a:stretch/>
          </p:blipFill>
          <p:spPr>
            <a:xfrm>
              <a:off x="0" y="1268280"/>
              <a:ext cx="3132000" cy="48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11"/>
            <p:cNvSpPr/>
            <p:nvPr/>
          </p:nvSpPr>
          <p:spPr>
            <a:xfrm>
              <a:off x="0" y="6180480"/>
              <a:ext cx="3132000" cy="580680"/>
            </a:xfrm>
            <a:prstGeom prst="rect">
              <a:avLst/>
            </a:prstGeom>
            <a:solidFill>
              <a:srgbClr val="dbbd71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Tahoma"/>
                </a:rPr>
                <a:t>Вывеска музея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Tahoma"/>
                </a:rPr>
                <a:t>Уголовного права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58" name="nasha_sluzhba_i_opasna_i_trudna.mp3" descr=""/>
          <p:cNvPicPr/>
          <p:nvPr/>
        </p:nvPicPr>
        <p:blipFill>
          <a:blip r:embed="rId3"/>
          <a:stretch/>
        </p:blipFill>
        <p:spPr>
          <a:xfrm>
            <a:off x="320364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16"/>
          <p:cNvPicPr/>
          <p:nvPr/>
        </p:nvPicPr>
        <p:blipFill>
          <a:blip r:embed="rId4"/>
          <a:stretch/>
        </p:blipFill>
        <p:spPr>
          <a:xfrm>
            <a:off x="7380360" y="119700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12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12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362800" cy="114300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Понятие и признаки преступлений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373960" cy="2087640"/>
          </a:xfrm>
          <a:prstGeom prst="rect">
            <a:avLst/>
          </a:prstGeom>
          <a:gradFill rotWithShape="0">
            <a:gsLst>
              <a:gs pos="0">
                <a:srgbClr val="655734"/>
              </a:gs>
              <a:gs pos="100000">
                <a:srgbClr val="dbbd71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dbbd71"/>
                </a:solidFill>
                <a:latin typeface="Times New Roman"/>
              </a:rPr>
              <a:t>Отсутствие общественной опасности исключает возможность признания деяния преступлением (речь идет о малозначительных деяниях, действиях необходимой обороны и т.д.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реступлением признается запрещенное уголовным законом общественно опасное деяние (действие или бездействие), причиняющее вред или создающее угрозу причинения вреда личности, обществу или государств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2556000" y="3860640"/>
            <a:ext cx="6588000" cy="252828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Уголовная ответственность возникает с момента совершения лицом преступления, а прекращается либо по отбытии наказания (снятие или погашение судимости), либо в случае освобождения от уголовной ответственности, либо в силу акта об амнистии или помиловани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Существует </a:t>
            </a:r>
            <a:r>
              <a:rPr b="1" lang="ru-RU" sz="1600" spc="-1" strike="noStrike">
                <a:solidFill>
                  <a:srgbClr val="663300"/>
                </a:solidFill>
                <a:latin typeface="Tahoma"/>
              </a:rPr>
              <a:t>фактическое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и </a:t>
            </a:r>
            <a:r>
              <a:rPr b="1" lang="ru-RU" sz="1600" spc="-1" strike="noStrike">
                <a:solidFill>
                  <a:srgbClr val="663300"/>
                </a:solidFill>
                <a:latin typeface="Tahoma"/>
              </a:rPr>
              <a:t>юридическое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основание уголовной ответственн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Лицо, совершившее преступление, подлежит уголовной ответственности независимо от происхождения, социального, должностного и имущественного положения, расовой и национальной принадлежности, пола, образования, языка и т.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5" descr="555b2b1051829baa530b98c880c1bbd6"/>
          <p:cNvPicPr/>
          <p:nvPr/>
        </p:nvPicPr>
        <p:blipFill>
          <a:blip r:embed="rId1"/>
          <a:stretch/>
        </p:blipFill>
        <p:spPr>
          <a:xfrm>
            <a:off x="395280" y="3933720"/>
            <a:ext cx="19335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2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2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5219640" cy="2879640"/>
          </a:xfrm>
          <a:prstGeom prst="rect">
            <a:avLst/>
          </a:prstGeom>
          <a:solidFill>
            <a:srgbClr val="cccc00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Уровень общественной опасности, а значит и характер наказания зависят от целого ряда факторов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ценности охраняемого объект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характера и размера преступного последств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способ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оруди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мес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времен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обстановки совершения преступл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5280" y="3933720"/>
            <a:ext cx="6012000" cy="237636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По степени общественной опасности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преступления делятся на насильственные, экономические, государственные, хозяйственные, умышленные и неосторожны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по степени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: особо тяжкие, тяжкие, средней тяжести, и не представляющие большой общественной опас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662400" y="3068640"/>
            <a:ext cx="8193960" cy="64260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Существу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качественные и количественные характеристики преступления.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6" descr="0712-02"/>
          <p:cNvPicPr/>
          <p:nvPr/>
        </p:nvPicPr>
        <p:blipFill>
          <a:blip r:embed="rId1"/>
          <a:stretch/>
        </p:blipFill>
        <p:spPr>
          <a:xfrm>
            <a:off x="6659640" y="3933720"/>
            <a:ext cx="2293920" cy="2924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218" name="Picture 7" descr="2871b"/>
          <p:cNvPicPr/>
          <p:nvPr/>
        </p:nvPicPr>
        <p:blipFill>
          <a:blip r:embed="rId2"/>
          <a:stretch/>
        </p:blipFill>
        <p:spPr>
          <a:xfrm>
            <a:off x="5867280" y="404640"/>
            <a:ext cx="2857680" cy="22003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solidFill>
            <a:srgbClr val="cccc00"/>
          </a:solidFill>
          <a:ln w="381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Состав преступл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0440" y="1125360"/>
            <a:ext cx="9271440" cy="64260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оставом преступления принято называть совокупно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установленных законом объективных и субъективных признаков преступ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268360" y="1844640"/>
            <a:ext cx="6696360" cy="3934440"/>
          </a:xfrm>
          <a:prstGeom prst="rect">
            <a:avLst/>
          </a:prstGeom>
          <a:solidFill>
            <a:srgbClr val="ffcc66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бъектом преступления являются охраняемые законом общественные отнош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Объект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может бы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бщим (вся совокупность общественных отношени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родовым (однородная группа общественных отношений)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непосредственным (то общественное отношение, которое терпит ущерб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Беспредметных преступлений не существует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бъективная сторона преступления - это внешняя сторон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а есть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 субъективная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- мотивы и цели, отношение виновного к своему деянию и его последствия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0" y="6159600"/>
            <a:ext cx="9144000" cy="91692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Выделяют такие формы преступления, как: длящиеся, продолжаем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(повторяемые) и составные (различные преступления, совершенные одним лиц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37680" y="5734080"/>
            <a:ext cx="8032320" cy="368280"/>
          </a:xfrm>
          <a:prstGeom prst="rect">
            <a:avLst/>
          </a:prstGeom>
          <a:solidFill>
            <a:srgbClr val="dbbd71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еступление может выражаться как в действии, так и бездействи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9" descr="020202ac"/>
          <p:cNvPicPr/>
          <p:nvPr/>
        </p:nvPicPr>
        <p:blipFill>
          <a:blip r:embed="rId1"/>
          <a:stretch/>
        </p:blipFill>
        <p:spPr>
          <a:xfrm>
            <a:off x="108000" y="2492280"/>
            <a:ext cx="2016000" cy="28846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851280" y="1197000"/>
            <a:ext cx="5113440" cy="5516640"/>
          </a:xfrm>
          <a:prstGeom prst="rect">
            <a:avLst/>
          </a:prstGeom>
          <a:solidFill>
            <a:srgbClr val="a870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тяжкие и распространенные преступления ответственность наступает с 14 л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виды убийств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мышленное нанесение телесных повреждений, причинивших расстройство здоровь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бой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беж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ажу чужого имуществ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лостное и особо злостное хулиганство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ищение огнестрельного оружия, наркотиков и т.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овное наказание применяется к подросткам не тогда, когда это возможно, а только тогда, когда без него нельзя обойтись. В некоторых случаях уголовный закон предусматривает уголовную ответственность лица по достижении им 18 ле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46920" y="260280"/>
            <a:ext cx="8216640" cy="642600"/>
          </a:xfrm>
          <a:prstGeom prst="rect">
            <a:avLst/>
          </a:prstGeom>
          <a:solidFill>
            <a:srgbClr val="a870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убъектом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ступления может быть признано физическое лиц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меняемое и достигшее возраста уголовной ответственности -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6 л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8" descr="f75d3f8977640d6973375c6ae8291759областном суде состоялось заседание"/>
          <p:cNvPicPr/>
          <p:nvPr/>
        </p:nvPicPr>
        <p:blipFill>
          <a:blip r:embed="rId1"/>
          <a:stretch/>
        </p:blipFill>
        <p:spPr>
          <a:xfrm>
            <a:off x="179280" y="3716280"/>
            <a:ext cx="3527640" cy="285120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228" name="Picture 10" descr="173924239"/>
          <p:cNvPicPr/>
          <p:nvPr/>
        </p:nvPicPr>
        <p:blipFill>
          <a:blip r:embed="rId2"/>
          <a:stretch/>
        </p:blipFill>
        <p:spPr>
          <a:xfrm>
            <a:off x="179280" y="1268280"/>
            <a:ext cx="3346560" cy="21463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3780000" y="189000"/>
            <a:ext cx="4895640" cy="4362840"/>
          </a:xfrm>
          <a:prstGeom prst="rect">
            <a:avLst/>
          </a:prstGeom>
          <a:solidFill>
            <a:srgbClr val="dbbd7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ahoma"/>
              </a:rPr>
              <a:t>Субъектом преступления также может выступать </a:t>
            </a: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юридическое лицо</a:t>
            </a:r>
            <a:r>
              <a:rPr b="0" lang="ru-RU" sz="2000" spc="-1" strike="noStrike">
                <a:solidFill>
                  <a:srgbClr val="663300"/>
                </a:solidFill>
                <a:latin typeface="Tahoma"/>
              </a:rPr>
              <a:t> (предприятие, учреждение, организация и т.д.), если его деятельность не соответствует учредительным документам или объявленным целя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ahoma"/>
              </a:rPr>
              <a:t>За это преступление предусматривается штраф, запрещение заниматься определенной деятельностью, конфискация имущества, ликвидация юридического лица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395280" y="4653000"/>
            <a:ext cx="8569440" cy="201420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Соучастие в преступлении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есть умышленное совместное участие двух или более лиц в совершении преступл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В зависимости от характера выполняемых действий соучастники подразделяются на исполнителей, организаторов, подстрекателей и пособник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тветственность соучастников определяется характером участия каждого из них в совершении преступл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6" descr="element-589841-misc-plut_700"/>
          <p:cNvPicPr/>
          <p:nvPr/>
        </p:nvPicPr>
        <p:blipFill>
          <a:blip r:embed="rId1"/>
          <a:stretch/>
        </p:blipFill>
        <p:spPr>
          <a:xfrm>
            <a:off x="250920" y="2421000"/>
            <a:ext cx="3076560" cy="208764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232" name="Picture 7" descr="karikatura224"/>
          <p:cNvPicPr/>
          <p:nvPr/>
        </p:nvPicPr>
        <p:blipFill>
          <a:blip r:embed="rId2"/>
          <a:stretch/>
        </p:blipFill>
        <p:spPr>
          <a:xfrm>
            <a:off x="108000" y="189000"/>
            <a:ext cx="3600360" cy="21063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cccc00"/>
          </a:solidFill>
          <a:ln w="284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Наказание, их система и вид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144000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аказание устанавливается с учетом тяжести совершенного преступления, степени общественной опасности личности, обстоятельств, смягчающих и отягощающих уголовную ответственн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уд учитывает также обстоятельства дела и личность виновного, а равно его явку с повинной либо активное способствование раскрытию преступ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2700360" y="3284640"/>
            <a:ext cx="6265800" cy="146556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Признака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наказания являются предусмотренность закон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убличность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трицательность морально-политической оценки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именимость только по решению суд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6" descr="iгпв"/>
          <p:cNvPicPr/>
          <p:nvPr/>
        </p:nvPicPr>
        <p:blipFill>
          <a:blip r:embed="rId1"/>
          <a:stretch/>
        </p:blipFill>
        <p:spPr>
          <a:xfrm>
            <a:off x="0" y="3213000"/>
            <a:ext cx="2554200" cy="1484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37" name="Rectangle 7"/>
          <p:cNvSpPr/>
          <p:nvPr/>
        </p:nvSpPr>
        <p:spPr>
          <a:xfrm>
            <a:off x="0" y="4824360"/>
            <a:ext cx="8785080" cy="199224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аказание нацелено на исправление осужденного и предупреждение новых преступлений как осужденным, так и иными лиц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аказание не имеет целью причинение осужденному физических страданий или унижение его человеческого достоин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5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0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8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3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6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5"/>
          <p:cNvSpPr/>
          <p:nvPr/>
        </p:nvSpPr>
        <p:spPr>
          <a:xfrm>
            <a:off x="179280" y="3500280"/>
            <a:ext cx="8964720" cy="3051360"/>
          </a:xfrm>
          <a:prstGeom prst="rect">
            <a:avLst/>
          </a:prstGeom>
          <a:solidFill>
            <a:srgbClr val="dbbd71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Дополнительные наказания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не могут применяться самостоятельно, к ним можно отнести конфискацию имущества, лишение воинского или специального зва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В виде исключительной меры наказания допускается применение смертной казни - расстрела (умышленное убийство с особой жестокостью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 ней не могут быть приговорены несовершеннолетние до 18 лет, женщины в состоянии беременности (по проекту - она не должна применяться к женщинам, к мужчинам старше 65 лет). В результате помилования смертная казнь может заменяться пожизненным заключени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76040" y="401760"/>
            <a:ext cx="3826080" cy="82548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ahoma"/>
              </a:rPr>
              <a:t>К основны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ahoma"/>
              </a:rPr>
              <a:t>наказаниям относя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179280" y="1700280"/>
            <a:ext cx="4572000" cy="1557000"/>
          </a:xfrm>
          <a:prstGeom prst="rect">
            <a:avLst/>
          </a:prstGeom>
          <a:solidFill>
            <a:srgbClr val="99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лишение свобод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исправительные работы без лишения свобод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общественное пориц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8" descr="rthria_cont"/>
          <p:cNvPicPr/>
          <p:nvPr/>
        </p:nvPicPr>
        <p:blipFill>
          <a:blip r:embed="rId1"/>
          <a:stretch/>
        </p:blipFill>
        <p:spPr>
          <a:xfrm>
            <a:off x="5003640" y="189000"/>
            <a:ext cx="4140360" cy="32400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9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4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cccc00"/>
          </a:solidFill>
          <a:ln w="284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Преступления, попадающие под действие уголовного пра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5256360" cy="508464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онституция РФ закрепила право человека на жизнь, свободу и личную неприкосновенность, поэтому охрана жизни, здоровья, свободы, чести и достоинства - одна из важнейших задач уголовного законодатель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амым опасным являются убийства (противоправное умышленное или неосторожное лишение жизни другого человека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е менее опасным является умышленное нанесение тяжелого телесного повреждения, изнасилование, незаконное лишение свободы, захват заложников, похищение человека, помещение в психиатрическую больницу заведомо психически здорового человека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Picture 4" descr="iмтт"/>
          <p:cNvPicPr/>
          <p:nvPr/>
        </p:nvPicPr>
        <p:blipFill>
          <a:blip r:embed="rId1"/>
          <a:stretch/>
        </p:blipFill>
        <p:spPr>
          <a:xfrm>
            <a:off x="5724360" y="4149720"/>
            <a:ext cx="3240360" cy="21272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245" name="Picture 5" descr="iаол"/>
          <p:cNvPicPr/>
          <p:nvPr/>
        </p:nvPicPr>
        <p:blipFill>
          <a:blip r:embed="rId2"/>
          <a:stretch/>
        </p:blipFill>
        <p:spPr>
          <a:xfrm>
            <a:off x="6227640" y="1989000"/>
            <a:ext cx="2355840" cy="161784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8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3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8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5219640" cy="4530960"/>
          </a:xfrm>
          <a:prstGeom prst="rect">
            <a:avLst/>
          </a:prstGeom>
          <a:solidFill>
            <a:srgbClr val="dbbd71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К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корыстным преступлениям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относятся преступления против собственности - незаконное обогащение за счет чужого имущест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Среди них можно выделить: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кражу, грабеж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- открытое изъятие имущества без насилия либо с насилием, не опасным для жизн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разбой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- насильственное нападение, опасное для жизни и здоровья (физически или психологически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ошенничество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- завладение чужим имуществом путем обмана или злоупотребления доверие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вымогательство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чужого имущества - требование передачи имущества или права на него под угрозой применения насилия, шантаж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0920" y="5445000"/>
            <a:ext cx="8748720" cy="58968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За кражу, грабеж и разбой ответственность наступает с 14 лет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за остальные преступления - с 1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Picture 6" descr="hru"/>
          <p:cNvPicPr/>
          <p:nvPr/>
        </p:nvPicPr>
        <p:blipFill>
          <a:blip r:embed="rId1"/>
          <a:stretch/>
        </p:blipFill>
        <p:spPr>
          <a:xfrm>
            <a:off x="5867280" y="2852640"/>
            <a:ext cx="3075120" cy="21607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249" name="Picture 7" descr="1222739497_14"/>
          <p:cNvPicPr/>
          <p:nvPr/>
        </p:nvPicPr>
        <p:blipFill>
          <a:blip r:embed="rId2"/>
          <a:stretch/>
        </p:blipFill>
        <p:spPr>
          <a:xfrm>
            <a:off x="6227640" y="0"/>
            <a:ext cx="2354400" cy="25653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2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5435640" cy="4897440"/>
          </a:xfrm>
          <a:prstGeom prst="rect">
            <a:avLst/>
          </a:prstGeom>
          <a:solidFill>
            <a:srgbClr val="cccc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За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елкое хулиганство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(нецензурная брань в общественных местах, оскорбительное приставание к гражданам и т.д.) предусмотрена административная ответствен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ростое хулиганство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наказывается лишением свободы сроком до одного года или исправительными работами, или штраф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За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злостное хулиганство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(отличается исключительным цинизмом или особой дерзостью, сопротивлением власти или гражданам, пресекающим хулиганские действия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лишение свободы от одного до пяти лет (глумление над престарелыми или больными, уничтожение имущества потерпевшег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От трех до семи лет за совершение особо злостного хулиганства (с применением огнестрельного или холодного оружия, кастетов и др. предметов, специально предназначенных для нанесения телесных повреждений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4" descr="000126ir"/>
          <p:cNvPicPr/>
          <p:nvPr/>
        </p:nvPicPr>
        <p:blipFill>
          <a:blip r:embed="rId1"/>
          <a:stretch/>
        </p:blipFill>
        <p:spPr>
          <a:xfrm>
            <a:off x="6012000" y="2924280"/>
            <a:ext cx="2879640" cy="26431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52" name="Rectangle 5"/>
          <p:cNvSpPr/>
          <p:nvPr/>
        </p:nvSpPr>
        <p:spPr>
          <a:xfrm>
            <a:off x="0" y="189000"/>
            <a:ext cx="9036000" cy="91692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Хулиганство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выражается в активных действиях, грубо нарушающ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бщественный порядок и выражающих явное неуважение к личности и обществ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539640" y="1197000"/>
            <a:ext cx="8210520" cy="532440"/>
          </a:xfrm>
          <a:prstGeom prst="rect">
            <a:avLst/>
          </a:prstGeom>
          <a:solidFill>
            <a:srgbClr val="99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Различают три его разновидности: простое, злостное и особо злостно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5975280" cy="11430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1" action="ppaction://hlinksldjump"/>
              </a:rPr>
              <a:t>Происхождение наз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2" action="ppaction://hlinksldjump"/>
              </a:rPr>
              <a:t>Понятие уголовного пра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3" action="ppaction://hlinksldjump"/>
              </a:rPr>
              <a:t>Понятие и признаки преступл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4" action="ppaction://hlinksldjump"/>
              </a:rPr>
              <a:t>Состав преступ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5" action="ppaction://hlinksldjump"/>
              </a:rPr>
              <a:t>Наказание, их система и виды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6" action="ppaction://hlinksldjump"/>
              </a:rPr>
              <a:t>_x000b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7" action="ppaction://hlinksldjump"/>
              </a:rPr>
              <a:t>Преступления, попадающие под действие уголовного пра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8" action="ppaction://hlinksldjump"/>
              </a:rPr>
              <a:t>Преступники, заставившие говорить о себе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Схемы**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17по"/>
          <p:cNvPicPr/>
          <p:nvPr/>
        </p:nvPicPr>
        <p:blipFill>
          <a:blip r:embed="rId9"/>
          <a:stretch/>
        </p:blipFill>
        <p:spPr>
          <a:xfrm>
            <a:off x="179280" y="0"/>
            <a:ext cx="94320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90"/>
          <p:cNvPicPr/>
          <p:nvPr/>
        </p:nvPicPr>
        <p:blipFill>
          <a:blip r:embed="rId10"/>
          <a:stretch/>
        </p:blipFill>
        <p:spPr>
          <a:xfrm>
            <a:off x="7740720" y="115920"/>
            <a:ext cx="1238040" cy="1557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79"/>
          <p:cNvPicPr/>
          <p:nvPr/>
        </p:nvPicPr>
        <p:blipFill>
          <a:blip r:embed="rId11"/>
          <a:stretch/>
        </p:blipFill>
        <p:spPr>
          <a:xfrm>
            <a:off x="6588000" y="5229360"/>
            <a:ext cx="2556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78920" y="1599840"/>
            <a:ext cx="6193080" cy="2405160"/>
          </a:xfrm>
          <a:prstGeom prst="rect">
            <a:avLst/>
          </a:prstGeom>
          <a:solidFill>
            <a:srgbClr val="c4c188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 этим преступлениям относятся: незаконное изготовление, приобретение, хранение, перевозка или сбыт наркотических вещест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Если лицо добровольно сдало его или обратилось за медицинской помощью - оно освобождается от ответственности (за приобретение, хранение, перевозку и пересылку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Picture 4" descr="default"/>
          <p:cNvPicPr/>
          <p:nvPr/>
        </p:nvPicPr>
        <p:blipFill>
          <a:blip r:embed="rId1"/>
          <a:stretch/>
        </p:blipFill>
        <p:spPr>
          <a:xfrm>
            <a:off x="6443640" y="765000"/>
            <a:ext cx="2548080" cy="1656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5"/>
          <p:cNvSpPr/>
          <p:nvPr/>
        </p:nvSpPr>
        <p:spPr>
          <a:xfrm>
            <a:off x="49680" y="404640"/>
            <a:ext cx="6404760" cy="916920"/>
          </a:xfrm>
          <a:prstGeom prst="rect">
            <a:avLst/>
          </a:prstGeom>
          <a:solidFill>
            <a:srgbClr val="c4c188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убъектами преступлений, связанных с наркоманией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являются вменяемые лиц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достигшие 16-ти летнего возраста (за хищение - с 14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2627280" y="4292640"/>
            <a:ext cx="6351480" cy="1743120"/>
          </a:xfrm>
          <a:prstGeom prst="rect">
            <a:avLst/>
          </a:prstGeom>
          <a:solidFill>
            <a:srgbClr val="7e7b3e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рого карается умышленное повреждение или уничтожение чужого имущества, приводящее к остановке деятельности предприятия, отравлению людей и д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общеопасным способам относятся поджог, взрыв, затопление и т.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ответственность - с 16 ле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Picture 7" descr="107837"/>
          <p:cNvPicPr/>
          <p:nvPr/>
        </p:nvPicPr>
        <p:blipFill>
          <a:blip r:embed="rId2"/>
          <a:stretch/>
        </p:blipFill>
        <p:spPr>
          <a:xfrm>
            <a:off x="324000" y="4365720"/>
            <a:ext cx="2016000" cy="14284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259" name="Picture 8" descr="17"/>
          <p:cNvPicPr/>
          <p:nvPr/>
        </p:nvPicPr>
        <p:blipFill>
          <a:blip r:embed="rId3"/>
          <a:stretch/>
        </p:blipFill>
        <p:spPr>
          <a:xfrm>
            <a:off x="7093080" y="2852640"/>
            <a:ext cx="18288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Домашнее задание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Обществознание 8-9 под редакцией Боголюбова, М.,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§ 30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вопросы 1-4, устно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Понятия- знать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Эссе- письмен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повторить с.192 – термины и поня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Picture 4" descr="15"/>
          <p:cNvPicPr/>
          <p:nvPr/>
        </p:nvPicPr>
        <p:blipFill>
          <a:blip r:embed="rId1"/>
          <a:stretch/>
        </p:blipFill>
        <p:spPr>
          <a:xfrm>
            <a:off x="6465960" y="2421000"/>
            <a:ext cx="1377720" cy="2087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24"/>
          <p:cNvPicPr/>
          <p:nvPr/>
        </p:nvPicPr>
        <p:blipFill>
          <a:blip r:embed="rId2"/>
          <a:stretch/>
        </p:blipFill>
        <p:spPr>
          <a:xfrm>
            <a:off x="547560" y="404640"/>
            <a:ext cx="1027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Преступники, заставившие говорить о себе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9036000" cy="568800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Задуманное, хотя и не осуществленное преступление есть все же преступление.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ен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то прощает преступление, становится его сообщником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ольте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то, имея возможность предупредить преступление, не делает этого, тот ему способствует.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Сен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озорно не наказание, а преступление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Гердер 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Из всех преступлений самое тяжкое — это бессердечие. Камю 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реступление нуждается лишь в предлоге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   -   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Аристо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трашные преступления влекут за собой страшные последствия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Герцен А. 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Любовь к отечеству, стыд и страх поношения суть средства укротительная и могущие воздержать множество преступлений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уворов А. 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Только слабые совершают преступления: сильному и счастливому они не нужны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ольте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амый отъявленный злодей старается извинить себя и уговорить, что совершенное им преступление не особенно существенно и обусловлено необходимостью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- 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Лессин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Гораздо лучше предупреждать преступления, нежели их наказывать. - Екатерина Вели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Девять десятых из всего числа преступлений, пятнающих человечество, совершены под влиянием вина.- Толстой Л. 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6" name="po_tundre.mp3" descr=""/>
          <p:cNvPicPr/>
          <p:nvPr/>
        </p:nvPicPr>
        <p:blipFill>
          <a:blip r:embed="rId1"/>
          <a:stretch/>
        </p:blipFill>
        <p:spPr>
          <a:xfrm>
            <a:off x="10800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7" name="Oval 5"/>
          <p:cNvSpPr/>
          <p:nvPr/>
        </p:nvSpPr>
        <p:spPr>
          <a:xfrm>
            <a:off x="8748720" y="6237360"/>
            <a:ext cx="216000" cy="41112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nodeType="clickEffect" fill="hold">
                      <p:stCondLst>
                        <p:cond delay="0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1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Джон Диллинджер – враг общества номер один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6227640" cy="4530600"/>
          </a:xfrm>
          <a:prstGeom prst="rect">
            <a:avLst/>
          </a:prstGeom>
          <a:solidFill>
            <a:srgbClr val="cccc00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Джон Диллинджер - это преступник нового типа, широко применявший технические достижения цивилизации. Он активно пользовался автомобилями и одним из первых внедрил систему захвата заложников при ограблениях банков. Долгое время Диллинджер был головной болью всей полицейской Америки, ухитряясь совершать побеги из хорошо охраняемых тюрем. Его похождения и смерть во многом напоминают историю романтической парочки грабителей - Бонни Паркер и Клайда Барро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 последующие десятилетия по образцу банды Диллинджера были совершены десятки тысяч преступлений. И поныне не только в Америке, но и в Европе подражатели Диллинджера наводят на банковских служащих ужас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Picture 4" descr="_mikemouse_alive_mod_p189104355_id113041"/>
          <p:cNvPicPr/>
          <p:nvPr/>
        </p:nvPicPr>
        <p:blipFill>
          <a:blip r:embed="rId1"/>
          <a:stretch/>
        </p:blipFill>
        <p:spPr>
          <a:xfrm>
            <a:off x="6732720" y="2565360"/>
            <a:ext cx="2251080" cy="27129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Times New Roman"/>
              </a:rPr>
              <a:t>Аль Капон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453060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Альфонсо Габриэль Капоне, или Аль Капоне (итал. Alfonso Capone; 17 января 1899 — 25 января 1947) — знаменитый американский гангстер, действовавший в 1920—1930-х годах на территории Чика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Под прикрытием мебельного бизнеса занимался бутлегерством, игорным бизнесом и сутенёрств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Яркий представитель организованной преступности США, зародившейся и существующей там под влиянием итальянской маф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Известен также под прозвищем Лицо со шрам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Picture 4" descr="150px-Capone_TeenagerАльфонсо Габриэль Капоне"/>
          <p:cNvPicPr/>
          <p:nvPr/>
        </p:nvPicPr>
        <p:blipFill>
          <a:blip r:embed="rId1"/>
          <a:stretch/>
        </p:blipFill>
        <p:spPr>
          <a:xfrm>
            <a:off x="6804000" y="620640"/>
            <a:ext cx="2063880" cy="27370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Times New Roman"/>
              </a:rPr>
              <a:t>Лёнька Пантеле́ев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6948360" cy="5180040"/>
          </a:xfrm>
          <a:prstGeom prst="rect">
            <a:avLst/>
          </a:prstGeom>
          <a:solidFill>
            <a:srgbClr val="cccc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Лёнька Пантеле́ев (настоящее имя Леони́д Ива́нович Пантёлкин; 1902, Тихвин — 13 февраля 1923, Петроград) — знаменитый петроградский налётчи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 начале 1922 года Пантелеев обосновался в Петрограде, где собрал банду в которую вошли: сослуживец Пантелеева по Псковской ВЧК Варшулевич, бывший во время гражданской войны комиссар батальона член РКП(б) Гавриков и профессиональные уголовники Александр Рейнтоп (кличка Сашка-пан) и Михаил Лисенков (кличка Мишка-Корявый). Примерно в то же время банда совершила ряд разбоев в г. Петрограде и его окрестностя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Налёты Пантелеева отличались тщательной подготовкой, а также некоторой театральностью и бравадой. Оружие Пантелеев и его люди применяли крайне редко. В то же время, в период своего существования банда Пантелеева не ограбила ни одну государственную организацию. Тот факт, что Пантелеев грабил только нэпманов, создал ему своеобразный романтический ореол в глазах простого нар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 октябре 1922 года Пантелеев был арестован после перестрелки, в ходе которой погиб сотрудник милиции. В ночь с 10 на 11 ноября, воспользовавшись помощью надзирателя, Пантелеев с несколькими сообщниками совершил побег из тюрьмы и начал новую серию вооруженных разбоев. От первой серии эта отличалась тем, что Пантелеев иногда убивал своих жертв. К ликвидации банды были привлечены не только уголовный розыск, но и органы ГП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 ночь с 12 на 13 февраля 1923 год Пантелеев попал в засаду и был убит при задержан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4" descr="180px-LPanteleev"/>
          <p:cNvPicPr/>
          <p:nvPr/>
        </p:nvPicPr>
        <p:blipFill>
          <a:blip r:embed="rId1"/>
          <a:stretch/>
        </p:blipFill>
        <p:spPr>
          <a:xfrm>
            <a:off x="7020000" y="404640"/>
            <a:ext cx="1908000" cy="23497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6877080" cy="6858000"/>
          </a:xfrm>
          <a:prstGeom prst="rect">
            <a:avLst/>
          </a:prstGeom>
          <a:solidFill>
            <a:srgbClr val="cccc00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Со́нька — Золота́я ру́чка» великая аферистка и мошенница начала XX-го века Софья Ивановна Блювштейн (Шейндл Соломониак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Сегодняшний интерес к Софье вполне объясни́м — бурное начало века, давшее нам целую плеяду великих аферистов, вполне созвучно нашему не менее бурному времен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Жизнь легендарной в своём роде, дамы-авантюристки, известной в преступном мире, как Сонька-«Золотая Ручка», стала основой увлекательнейшего многосерийного повествования. В середине семидесятых годов XIX века о ней слагались легенды, она была неуловима и изобретательна, таланту и авторитету в уголовном мире не было равны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Благодаря поистине редкому криминальному мышлению, она приобрела опыт и смелость, подчинив свою жизнь и интеллект воровской профессии. В поле её деятельности оказывались крупные банкиры, иностранные дельцы, помещики, владельцы ювелирных магазинов, аристократические клубы, квартиры состоятельных людей. Это была яркая и талантливая, красивая и циничная; обаятельная и любвеобильная женщина, решившая для себя, что жизнь — игра, и в этой игре она не один год гастролировала по России и загранице, поражая воровской изобретательностью, убегая от преследования полиции, искусно исчезая и скрываясь…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олна преступлений, прокатившаяся по Европе, заставила говорить о Соньке весь мир. «Золотая ручка» отличалась особой скрупулезностью. Она тщательно готовилась к каждому преступлению. В её команде работали лучшие воры Европы, в её арсенале было множество приспособлений, необходимых для работы: накладные ногти, куда мошенница прятала мелкие ювелирные камни, туфли со специальными каблуками, к которым «вовремя» прилипали ювелирные украшения, платье-мешок, куда Сонька прятала награбленое. Но главным в её арсенале всевозможных уловок был несомненно актёрский талант, который помогал ей выпутываться из любых ситуац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Picture 4" descr="999952soniaka_zol_r"/>
          <p:cNvPicPr/>
          <p:nvPr/>
        </p:nvPicPr>
        <p:blipFill>
          <a:blip r:embed="rId1"/>
          <a:stretch/>
        </p:blipFill>
        <p:spPr>
          <a:xfrm>
            <a:off x="6948360" y="620640"/>
            <a:ext cx="2048040" cy="28576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79" name="Rectangle 5"/>
          <p:cNvSpPr/>
          <p:nvPr/>
        </p:nvSpPr>
        <p:spPr>
          <a:xfrm>
            <a:off x="6756480" y="3860640"/>
            <a:ext cx="2309760" cy="119124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дин из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немног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ижизнен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ортретов Сонь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94920" y="692280"/>
            <a:ext cx="8209080" cy="568944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1.Принцип законност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Преступность и наказуемость деяния определяется только уголовным закон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2.Принцип равенст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граждан перед законом. Лица совершившие преступления вне зависимости от привходящих обстоятельств, привлекаются к уголовной ответственности. За равные преступления назначается соразмерная ответственно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3.Принцип вины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Лицо подлежит уголовной ответственности только за те общественно опасные деяния, в отношении которых установлена его вин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4.Принцип справедливост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Уголовное наказание должно соответствовать характеру и степени общественной опасн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преступления, личности виновного и обстоятельствам его соверш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5.Принцип гуманизма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Уголовное законодательство направлено на обеспечение безопасности гражда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6.Принцип демократизма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 Уголовные законы принимаются только высшим законодательным органом, который избирается всем населением и, следовательно, выражает его вол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7.Принцип личной ответственност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Лицо совершившее преступление несет ответственность только за то, что соверше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им лично или охватывалось его преступным умысл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8.Принцип неотвратимост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ответственности. Любое лицо совершившее преступление должно понести ответствен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835280" y="189000"/>
            <a:ext cx="4537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ahoma"/>
              </a:rPr>
              <a:t>Принципы уголовного пра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28-1"/>
          <p:cNvPicPr/>
          <p:nvPr/>
        </p:nvPicPr>
        <p:blipFill>
          <a:blip r:embed="rId1"/>
          <a:stretch/>
        </p:blipFill>
        <p:spPr>
          <a:xfrm>
            <a:off x="179280" y="549360"/>
            <a:ext cx="8964720" cy="61196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1414080" y="115920"/>
            <a:ext cx="3236400" cy="368280"/>
          </a:xfrm>
          <a:prstGeom prst="rect">
            <a:avLst/>
          </a:prstGeom>
          <a:solidFill>
            <a:srgbClr val="99cc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хема 1 –Уголовное прав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28-2"/>
          <p:cNvPicPr/>
          <p:nvPr/>
        </p:nvPicPr>
        <p:blipFill>
          <a:blip r:embed="rId1"/>
          <a:stretch/>
        </p:blipFill>
        <p:spPr>
          <a:xfrm>
            <a:off x="108000" y="836640"/>
            <a:ext cx="8785080" cy="57610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1903680" y="203040"/>
            <a:ext cx="52585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хема 2 -  Уголовное право: особенная ча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Происхождение назва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6720" y="1436760"/>
            <a:ext cx="5904000" cy="5371920"/>
          </a:xfrm>
          <a:prstGeom prst="rect">
            <a:avLst/>
          </a:prstGeom>
          <a:solidFill>
            <a:srgbClr val="99cc00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В большинстве языков мира название правовой отрасли, регулирующей отношения, связанные с совершением преступлений происходит от слов «преступление» (например, в англоязычных странах — criminal law, от англ. crime) или «наказание» (в Германии — Strafrecht, от нем. Strafe, в Болгарии — наказателно прав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Н. С. Таганцев писал по этому поводу: «Преступное деяние как юридическое отношение заключает в себе два отдельных момента: отношение преступника к охраняемому законом юридическому интересу — преступление и отношение государства к преступнику, вызываемое учиненным им преступным деянием, — наказани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оэтому и уголовное право может быть конструировано двояко: или на первый план ставится преступное деяние, по отношению к которому кара или наказание является более или менее неизбежным последствием, или же вперед выдвигается карательная деятельность государства и преступное деяние рассматривается только как основание этой деятельности. Отсюда и двойственное название науки…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7" name="Group 11"/>
          <p:cNvGrpSpPr/>
          <p:nvPr/>
        </p:nvGrpSpPr>
        <p:grpSpPr>
          <a:xfrm>
            <a:off x="6300720" y="1844640"/>
            <a:ext cx="2735280" cy="5013360"/>
            <a:chOff x="6300720" y="1844640"/>
            <a:chExt cx="2735280" cy="5013360"/>
          </a:xfrm>
        </p:grpSpPr>
        <p:pic>
          <p:nvPicPr>
            <p:cNvPr id="168" name="Picture 8" descr="salicaLex Salica"/>
            <p:cNvPicPr/>
            <p:nvPr/>
          </p:nvPicPr>
          <p:blipFill>
            <a:blip r:embed="rId1"/>
            <a:stretch/>
          </p:blipFill>
          <p:spPr>
            <a:xfrm>
              <a:off x="6300720" y="4336920"/>
              <a:ext cx="2735280" cy="2521080"/>
            </a:xfrm>
            <a:prstGeom prst="rect">
              <a:avLst/>
            </a:prstGeom>
            <a:ln w="9360">
              <a:solidFill>
                <a:srgbClr val="663300"/>
              </a:solidFill>
              <a:miter/>
            </a:ln>
          </p:spPr>
        </p:pic>
        <p:grpSp>
          <p:nvGrpSpPr>
            <p:cNvPr id="169" name="Group 10"/>
            <p:cNvGrpSpPr/>
            <p:nvPr/>
          </p:nvGrpSpPr>
          <p:grpSpPr>
            <a:xfrm>
              <a:off x="6723360" y="1844640"/>
              <a:ext cx="2258640" cy="2669760"/>
              <a:chOff x="6723360" y="1844640"/>
              <a:chExt cx="2258640" cy="2669760"/>
            </a:xfrm>
          </p:grpSpPr>
          <p:pic>
            <p:nvPicPr>
              <p:cNvPr id="170" name="Picture 7" descr="Franki"/>
              <p:cNvPicPr/>
              <p:nvPr/>
            </p:nvPicPr>
            <p:blipFill>
              <a:blip r:embed="rId2"/>
              <a:stretch/>
            </p:blipFill>
            <p:spPr>
              <a:xfrm>
                <a:off x="7164360" y="1844640"/>
                <a:ext cx="1817640" cy="2278080"/>
              </a:xfrm>
              <a:prstGeom prst="rect">
                <a:avLst/>
              </a:prstGeom>
              <a:ln w="9360">
                <a:solidFill>
                  <a:srgbClr val="663300"/>
                </a:solidFill>
                <a:miter/>
              </a:ln>
            </p:spPr>
          </p:pic>
          <p:sp>
            <p:nvSpPr>
              <p:cNvPr id="171" name="Text Box 9"/>
              <p:cNvSpPr/>
              <p:nvPr/>
            </p:nvSpPr>
            <p:spPr>
              <a:xfrm>
                <a:off x="6723360" y="3933720"/>
                <a:ext cx="2131560" cy="580680"/>
              </a:xfrm>
              <a:prstGeom prst="rect">
                <a:avLst/>
              </a:prstGeom>
              <a:solidFill>
                <a:srgbClr val="f8a5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600" spc="-1" strike="noStrike">
                    <a:solidFill>
                      <a:srgbClr val="663300"/>
                    </a:solidFill>
                    <a:latin typeface="Tahoma"/>
                  </a:rPr>
                  <a:t>Салическая правда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Tahoma"/>
                  </a:rPr>
                  <a:t>(</a:t>
                </a:r>
                <a:r>
                  <a:rPr b="1" i="1" lang="ru-RU" sz="1600" spc="-1" strike="noStrike">
                    <a:solidFill>
                      <a:srgbClr val="663300"/>
                    </a:solidFill>
                    <a:latin typeface="Tahoma"/>
                  </a:rPr>
                  <a:t>(Lex Salica</a:t>
                </a:r>
                <a:r>
                  <a:rPr b="1" i="1" lang="en-US" sz="1600" spc="-1" strike="noStrike">
                    <a:solidFill>
                      <a:srgbClr val="663300"/>
                    </a:solidFill>
                    <a:latin typeface="Tahoma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172" name="Picture 12" descr="9"/>
          <p:cNvPicPr/>
          <p:nvPr/>
        </p:nvPicPr>
        <p:blipFill>
          <a:blip r:embed="rId3"/>
          <a:stretch/>
        </p:blipFill>
        <p:spPr>
          <a:xfrm>
            <a:off x="6705720" y="115920"/>
            <a:ext cx="24382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image002"/>
          <p:cNvPicPr/>
          <p:nvPr/>
        </p:nvPicPr>
        <p:blipFill>
          <a:blip r:embed="rId1"/>
          <a:stretch/>
        </p:blipFill>
        <p:spPr>
          <a:xfrm>
            <a:off x="2124000" y="57240"/>
            <a:ext cx="6264360" cy="68007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87" name="Text Box 5"/>
          <p:cNvSpPr/>
          <p:nvPr/>
        </p:nvSpPr>
        <p:spPr>
          <a:xfrm>
            <a:off x="179280" y="907920"/>
            <a:ext cx="1513080" cy="91692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хема 3-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уголовное пра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image001"/>
          <p:cNvPicPr/>
          <p:nvPr/>
        </p:nvPicPr>
        <p:blipFill>
          <a:blip r:embed="rId1"/>
          <a:stretch/>
        </p:blipFill>
        <p:spPr>
          <a:xfrm>
            <a:off x="2050920" y="549360"/>
            <a:ext cx="6480360" cy="60483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289" name="Text Box 5"/>
          <p:cNvSpPr/>
          <p:nvPr/>
        </p:nvSpPr>
        <p:spPr>
          <a:xfrm>
            <a:off x="361800" y="907920"/>
            <a:ext cx="1579680" cy="119124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хема 4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едм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уголовн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а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195640" y="259920"/>
            <a:ext cx="4680000" cy="659772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азвание этой отрасли права в русском языке имеет опосредованное отношение как к преступлению, так и к наказанию. Прилагательное «уголовный» было введено в правовой лексикон в последней четверти XVIII ве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Его происхождение является двояким: с одной стороны, оно восходит к </a:t>
            </a:r>
            <a:r>
              <a:rPr b="0" i="1" lang="ru-RU" sz="2000" spc="-1" strike="noStrike">
                <a:solidFill>
                  <a:srgbClr val="663300"/>
                </a:solidFill>
                <a:latin typeface="Times New Roman"/>
              </a:rPr>
              <a:t>юридическим памятникам Древней Руси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, употреблявшим такие термины, как «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голова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» (убитый человек), «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головник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» (убийца), «головщина» (убийство), «головничество» (вознаграждение родственникам убитого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 другой стороны — </a:t>
            </a:r>
            <a:r>
              <a:rPr b="0" i="1" lang="ru-RU" sz="2000" spc="-1" strike="noStrike">
                <a:solidFill>
                  <a:srgbClr val="663300"/>
                </a:solidFill>
                <a:latin typeface="Times New Roman"/>
              </a:rPr>
              <a:t>к латинскому прилагательному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capitalis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(от caput — голова, человек, индивидуум), которое в римском праве входило в названия наиболее суровых видов наказаний, связанных со смертной казнью, лишением свободы или римского граждан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4" descr="«Ярослав Мудрый»"/>
          <p:cNvPicPr/>
          <p:nvPr/>
        </p:nvPicPr>
        <p:blipFill>
          <a:blip r:embed="rId1"/>
          <a:stretch/>
        </p:blipFill>
        <p:spPr>
          <a:xfrm>
            <a:off x="0" y="189000"/>
            <a:ext cx="2050920" cy="3024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pravda"/>
          <p:cNvPicPr/>
          <p:nvPr/>
        </p:nvPicPr>
        <p:blipFill>
          <a:blip r:embed="rId2"/>
          <a:stretch/>
        </p:blipFill>
        <p:spPr>
          <a:xfrm>
            <a:off x="0" y="3789360"/>
            <a:ext cx="2050920" cy="2637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bimg83033"/>
          <p:cNvPicPr/>
          <p:nvPr/>
        </p:nvPicPr>
        <p:blipFill>
          <a:blip r:embed="rId3"/>
          <a:stretch/>
        </p:blipFill>
        <p:spPr>
          <a:xfrm>
            <a:off x="7164360" y="4338720"/>
            <a:ext cx="1763640" cy="2519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219722823"/>
          <p:cNvPicPr/>
          <p:nvPr/>
        </p:nvPicPr>
        <p:blipFill>
          <a:blip r:embed="rId4"/>
          <a:stretch/>
        </p:blipFill>
        <p:spPr>
          <a:xfrm>
            <a:off x="6948360" y="2852640"/>
            <a:ext cx="1979640" cy="1390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80104633_tonnelЦицерон Марк"/>
          <p:cNvPicPr/>
          <p:nvPr/>
        </p:nvPicPr>
        <p:blipFill>
          <a:blip r:embed="rId5"/>
          <a:stretch/>
        </p:blipFill>
        <p:spPr>
          <a:xfrm>
            <a:off x="7093080" y="189000"/>
            <a:ext cx="18604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27280" y="259920"/>
            <a:ext cx="6059520" cy="3024360"/>
          </a:xfrm>
          <a:prstGeom prst="rect">
            <a:avLst/>
          </a:prstGeom>
          <a:solidFill>
            <a:srgbClr val="ffcc66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Так, ещё М. М. Сперанский в пояснениях к проекту Уголовного уложения Российской Империи 1813 года указывал, что уголовные наказания «суть те, где дело идет о голове, т. е. о жизни, diminutio capiti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Жизнь каждого лица в обществе есть троякая: физическая, политическая и гражданская; две последние именуются правами состоя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сякое наказание, непосредственно удручающее или умаляющее бытие или состояние лица, есть наказание уголовно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0" name="Group 11"/>
          <p:cNvGrpSpPr/>
          <p:nvPr/>
        </p:nvGrpSpPr>
        <p:grpSpPr>
          <a:xfrm>
            <a:off x="250920" y="404640"/>
            <a:ext cx="2136600" cy="3039840"/>
            <a:chOff x="250920" y="404640"/>
            <a:chExt cx="2136600" cy="3039840"/>
          </a:xfrm>
        </p:grpSpPr>
        <p:pic>
          <p:nvPicPr>
            <p:cNvPr id="181" name="Picture 4" descr="iМихаил Михайлович Сперанский"/>
            <p:cNvPicPr/>
            <p:nvPr/>
          </p:nvPicPr>
          <p:blipFill>
            <a:blip r:embed="rId1"/>
            <a:stretch/>
          </p:blipFill>
          <p:spPr>
            <a:xfrm>
              <a:off x="250920" y="404640"/>
              <a:ext cx="2136600" cy="2521080"/>
            </a:xfrm>
            <a:prstGeom prst="rect">
              <a:avLst/>
            </a:prstGeom>
            <a:ln w="38160">
              <a:solidFill>
                <a:srgbClr val="663300"/>
              </a:solidFill>
              <a:miter/>
            </a:ln>
          </p:spPr>
        </p:pic>
        <p:sp>
          <p:nvSpPr>
            <p:cNvPr id="182" name="Rectangle 5"/>
            <p:cNvSpPr/>
            <p:nvPr/>
          </p:nvSpPr>
          <p:spPr>
            <a:xfrm>
              <a:off x="313200" y="2924280"/>
              <a:ext cx="2058120" cy="520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663300"/>
                  </a:solidFill>
                  <a:latin typeface="Tahoma"/>
                </a:rPr>
                <a:t>Михаил Михайлович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663300"/>
                  </a:solidFill>
                  <a:latin typeface="Tahoma"/>
                </a:rPr>
                <a:t>Сперанский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3" name="Text Box 6"/>
          <p:cNvSpPr/>
          <p:nvPr/>
        </p:nvSpPr>
        <p:spPr>
          <a:xfrm>
            <a:off x="1979640" y="4292640"/>
            <a:ext cx="6848280" cy="2288520"/>
          </a:xfrm>
          <a:prstGeom prst="rect">
            <a:avLst/>
          </a:prstGeom>
          <a:solidFill>
            <a:srgbClr val="ffcc66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охрана прав и свобод граждан, собственности, общественного порядка и безопасности, окружающей среды, конституционного строя от преступных посягательств, обеспечение мира и безопасности человечества, а т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же предупреждение преступл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395280" y="4869000"/>
            <a:ext cx="1079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ст.2, ч.1</a:t>
            </a:r>
            <a:endParaRPr b="0" lang="en-US" sz="1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УК РФ</a:t>
            </a:r>
            <a:endParaRPr b="0" lang="en-US" sz="1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895480" y="358776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132000" y="3573360"/>
            <a:ext cx="4751640" cy="482760"/>
          </a:xfrm>
          <a:prstGeom prst="rect">
            <a:avLst/>
          </a:prstGeom>
          <a:solidFill>
            <a:srgbClr val="99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Задачи уголовного законодатель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76360" y="3284640"/>
            <a:ext cx="5616360" cy="337968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Принципы уголовного права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законн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равенство граждан перед законо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неотвратимость ответственност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личная и виновная ответственн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справедливость и гуманиз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демократиз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исключение двойной уголовной ответственности за одно и то же дея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79280" y="1052640"/>
            <a:ext cx="8856720" cy="642600"/>
          </a:xfrm>
          <a:prstGeom prst="rect">
            <a:avLst/>
          </a:prstGeom>
          <a:solidFill>
            <a:srgbClr val="99cc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Данная отрасль права определяет общественно опасные дея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(преступления) и меру ответственности, наказания за их соверш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692360" y="1916280"/>
            <a:ext cx="6810120" cy="70380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Особенность Уголовного права заключ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в охране общества от преступных посягательст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7" descr="гев"/>
          <p:cNvPicPr/>
          <p:nvPr/>
        </p:nvPicPr>
        <p:blipFill>
          <a:blip r:embed="rId1"/>
          <a:stretch/>
        </p:blipFill>
        <p:spPr>
          <a:xfrm>
            <a:off x="179280" y="4869000"/>
            <a:ext cx="2880000" cy="1726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191" name="Picture 8" descr="sf_photo_lv_2"/>
          <p:cNvPicPr/>
          <p:nvPr/>
        </p:nvPicPr>
        <p:blipFill>
          <a:blip r:embed="rId2"/>
          <a:stretch/>
        </p:blipFill>
        <p:spPr>
          <a:xfrm>
            <a:off x="395280" y="3141720"/>
            <a:ext cx="2427120" cy="134784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192" name="Rectangle 9"/>
          <p:cNvSpPr/>
          <p:nvPr/>
        </p:nvSpPr>
        <p:spPr>
          <a:xfrm>
            <a:off x="971640" y="189000"/>
            <a:ext cx="7199280" cy="642600"/>
          </a:xfrm>
          <a:prstGeom prst="rect">
            <a:avLst/>
          </a:prstGeom>
          <a:solidFill>
            <a:srgbClr val="cccc00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Понятие уголовного права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9036000" cy="1181160"/>
          </a:xfrm>
          <a:prstGeom prst="rect">
            <a:avLst/>
          </a:prstGeom>
          <a:solidFill>
            <a:srgbClr val="cca5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истема уголовного права разделяется на Общую, (излагающую основные цели, задачи и принципы) и Особенную (рассматривает вопросы ответственности за совершение конкретных преступлений) ч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619280" y="189000"/>
            <a:ext cx="6213600" cy="368280"/>
          </a:xfrm>
          <a:prstGeom prst="rect">
            <a:avLst/>
          </a:prstGeom>
          <a:solidFill>
            <a:srgbClr val="cca5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Характеристика Уголовного кодек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195640" y="907920"/>
            <a:ext cx="5761080" cy="459720"/>
          </a:xfrm>
          <a:prstGeom prst="rect">
            <a:avLst/>
          </a:prstGeom>
          <a:solidFill>
            <a:srgbClr val="cca5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12 разделов    -     360 ста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WordArt 6"/>
          <p:cNvSpPr txBox="1"/>
          <p:nvPr/>
        </p:nvSpPr>
        <p:spPr>
          <a:xfrm>
            <a:off x="826920" y="2924280"/>
            <a:ext cx="2953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Общая</a:t>
            </a:r>
            <a:endParaRPr b="1" lang="en-US" sz="2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часть</a:t>
            </a:r>
            <a:endParaRPr b="1" lang="en-US" sz="2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</p:txBody>
      </p:sp>
      <p:sp>
        <p:nvSpPr>
          <p:cNvPr id="197" name="WordArt 7"/>
          <p:cNvSpPr txBox="1"/>
          <p:nvPr/>
        </p:nvSpPr>
        <p:spPr>
          <a:xfrm>
            <a:off x="5415120" y="2849400"/>
            <a:ext cx="270324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Особенная</a:t>
            </a:r>
            <a:endParaRPr b="1" lang="en-US" sz="1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часть</a:t>
            </a:r>
            <a:endParaRPr b="1" lang="en-US" sz="1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79280" y="3886200"/>
            <a:ext cx="3816360" cy="2899080"/>
          </a:xfrm>
          <a:prstGeom prst="rect">
            <a:avLst/>
          </a:prstGeom>
          <a:solidFill>
            <a:srgbClr val="cca5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3300"/>
                </a:solidFill>
                <a:uFillTx/>
                <a:latin typeface="Times New Roman"/>
              </a:rPr>
              <a:t>6 раздело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Уголовный зако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Наказани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Освобождение от уголовной ответствен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УО несовершеннолетних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инудительные ме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медицинского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характер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4750920" y="3946680"/>
            <a:ext cx="4152240" cy="2838240"/>
          </a:xfrm>
          <a:prstGeom prst="rect">
            <a:avLst/>
          </a:prstGeom>
          <a:solidFill>
            <a:srgbClr val="cca500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3300"/>
                </a:solidFill>
                <a:uFillTx/>
                <a:latin typeface="Times New Roman"/>
              </a:rPr>
              <a:t>6 раздело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лич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в сфере экономик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обществен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ной безопас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гос в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воен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служб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ми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10" descr="7"/>
          <p:cNvPicPr/>
          <p:nvPr/>
        </p:nvPicPr>
        <p:blipFill>
          <a:blip r:embed="rId1"/>
          <a:stretch/>
        </p:blipFill>
        <p:spPr>
          <a:xfrm>
            <a:off x="150840" y="189000"/>
            <a:ext cx="9651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77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77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9280" y="2708280"/>
            <a:ext cx="8229600" cy="1008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a500"/>
                </a:solidFill>
                <a:latin typeface="Tahoma"/>
              </a:rPr>
              <a:t>формулируют основные понятия и принципы уголовного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547640" y="1916280"/>
            <a:ext cx="5780160" cy="459720"/>
          </a:xfrm>
          <a:prstGeom prst="rect">
            <a:avLst/>
          </a:prstGeom>
          <a:solidFill>
            <a:srgbClr val="cca5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Статьи Общей ч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195640" y="4005360"/>
            <a:ext cx="4626000" cy="459720"/>
          </a:xfrm>
          <a:prstGeom prst="rect">
            <a:avLst/>
          </a:prstGeom>
          <a:solidFill>
            <a:srgbClr val="f8a5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Статьи Особенной ч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8880" y="4797360"/>
            <a:ext cx="8830800" cy="119124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-состоят из 2 частей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Диспозиция (описание признаков конкретного преступления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Санкция(определение вида и размера наказа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79280" y="333360"/>
            <a:ext cx="8748720" cy="146556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Единственным источником УП является </a:t>
            </a:r>
            <a:r>
              <a:rPr b="1" i="1" lang="ru-RU" sz="1800" spc="-1" strike="noStrike">
                <a:solidFill>
                  <a:srgbClr val="663300"/>
                </a:solidFill>
                <a:latin typeface="Tahoma"/>
              </a:rPr>
              <a:t>уголовный закон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, основывающийся на Конституции РФ и общепризнанных нормах международного пра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Уголовный Кодекс (УК) подразделяется на Общую (общие положения) и Особенную (конкретные статьи) ча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79280" y="4149720"/>
            <a:ext cx="8785440" cy="2519280"/>
          </a:xfrm>
          <a:prstGeom prst="rect">
            <a:avLst/>
          </a:prstGeom>
          <a:solidFill>
            <a:srgbClr val="cca500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 санкции указывается вид и размер наказания за совершение конкретного преступлени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Санкции бывают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относительно-определенными</a:t>
            </a:r>
            <a:r>
              <a:rPr b="0" i="1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(указывается нижний и верхний предел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альтернативным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(содержит выбор из различных видов наказания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УК носи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8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территориальный</a:t>
            </a:r>
            <a:r>
              <a:rPr b="0" i="1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(все лица, совершившие преступления на территории России, подлежат ответственности по законам РФ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8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гражданский характер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(граждане РФ вне зависимости от места совершения преступления подлежат ответственности по российским закона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79280" y="333360"/>
            <a:ext cx="4969080" cy="3213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          </a:t>
            </a:r>
            <a:r>
              <a:rPr b="1" i="1" lang="ru-RU" sz="1800" spc="-1" strike="noStrike">
                <a:solidFill>
                  <a:srgbClr val="663300"/>
                </a:solidFill>
                <a:latin typeface="Tahoma"/>
              </a:rPr>
              <a:t>Выделяютс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ahoma"/>
              </a:rPr>
              <a:t>четыре вида диспозиции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- простая (называется преступление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ahoma"/>
              </a:rPr>
              <a:t>     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не раскрывая его признаков)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- описательная (определяются существенн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ahoma"/>
              </a:rPr>
              <a:t>     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признаки: кража, например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это тайное похищение чужого имущества)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- ссылочная (отсылка к другой статье)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- бланкетная (не определяются все призна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ahoma"/>
              </a:rPr>
              <a:t>        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состава преступления, что  требу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обращения к другим нормам или отраслям права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8" descr="strafrecht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17193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209" name="Picture 9" descr="beccaria"/>
          <p:cNvPicPr/>
          <p:nvPr/>
        </p:nvPicPr>
        <p:blipFill>
          <a:blip r:embed="rId2"/>
          <a:stretch/>
        </p:blipFill>
        <p:spPr>
          <a:xfrm>
            <a:off x="5364000" y="1700280"/>
            <a:ext cx="2953080" cy="23320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8:37:27Z</dcterms:created>
  <dc:creator>www.PHILka.RU</dc:creator>
  <dc:description/>
  <dc:language>en-US</dc:language>
  <cp:lastModifiedBy>Ведмедовская_Т</cp:lastModifiedBy>
  <dcterms:modified xsi:type="dcterms:W3CDTF">2018-12-24T15:49:32Z</dcterms:modified>
  <cp:revision>17</cp:revision>
  <dc:subject/>
  <dc:title>Уголовное право</dc:title>
</cp:coreProperties>
</file>